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63244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19320" y="4442040"/>
            <a:ext cx="63244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3086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0400" y="2133720"/>
            <a:ext cx="3086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4442040"/>
            <a:ext cx="3086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460400" y="4442040"/>
            <a:ext cx="3086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203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7720" y="2133720"/>
            <a:ext cx="203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496120" y="2133720"/>
            <a:ext cx="203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19320" y="4442040"/>
            <a:ext cx="203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7720" y="4442040"/>
            <a:ext cx="203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496120" y="4442040"/>
            <a:ext cx="203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19320" y="21337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3086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460400" y="2133720"/>
            <a:ext cx="3086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6172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3086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60400" y="2133720"/>
            <a:ext cx="3086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19320" y="4442040"/>
            <a:ext cx="3086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19320" y="21337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3086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60400" y="2133720"/>
            <a:ext cx="3086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460400" y="4442040"/>
            <a:ext cx="3086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3086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60400" y="2133720"/>
            <a:ext cx="3086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4442040"/>
            <a:ext cx="63244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63244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19320" y="4442040"/>
            <a:ext cx="63244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3086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0400" y="2133720"/>
            <a:ext cx="3086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4442040"/>
            <a:ext cx="3086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460400" y="4442040"/>
            <a:ext cx="3086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203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57720" y="2133720"/>
            <a:ext cx="203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496120" y="2133720"/>
            <a:ext cx="203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19320" y="4442040"/>
            <a:ext cx="203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57720" y="4442040"/>
            <a:ext cx="203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496120" y="4442040"/>
            <a:ext cx="203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3086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460400" y="2133720"/>
            <a:ext cx="3086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6172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3086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0400" y="2133720"/>
            <a:ext cx="3086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19320" y="4442040"/>
            <a:ext cx="3086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3086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0400" y="2133720"/>
            <a:ext cx="3086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60400" y="4442040"/>
            <a:ext cx="3086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3086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0400" y="2133720"/>
            <a:ext cx="3086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19320" y="4442040"/>
            <a:ext cx="63244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1337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6eef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eef6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eef6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eef6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eef6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eef6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eef6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eef6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19320" y="21337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6eef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eef6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eef6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eef6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eef6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eef6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eef6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eef6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animationfactory.com/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3048120"/>
            <a:ext cx="5943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fece"/>
                </a:solidFill>
                <a:latin typeface="Verdana"/>
              </a:rPr>
              <a:t>Food</a:t>
            </a:r>
            <a:br>
              <a:rPr sz="4000"/>
            </a:br>
            <a:endParaRPr b="1" lang="en-US" sz="4000" spc="-1" strike="noStrike">
              <a:solidFill>
                <a:srgbClr val="ccff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28600" y="5943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chool lunches and breakfast</a:t>
            </a: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Verdana"/>
              </a:rPr>
              <a:t>                </a:t>
            </a:r>
            <a:r>
              <a:rPr b="1" lang="en-US" sz="3200" spc="-1" strike="noStrike">
                <a:solidFill>
                  <a:srgbClr val="ccff66"/>
                </a:solidFill>
                <a:latin typeface="Verdana"/>
              </a:rPr>
              <a:t>lunch</a:t>
            </a: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TOPIC GOES HERE</a:t>
            </a: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our Subtopics Go Here</a:t>
            </a:r>
            <a:endParaRPr b="1" lang="en-US" sz="2000" spc="-1" strike="noStrike">
              <a:solidFill>
                <a:srgbClr val="c6eef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327672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ITIONAL PAGE</a:t>
            </a:r>
            <a:endParaRPr b="1" lang="en-US" sz="3200" spc="-1" strike="noStrike">
              <a:solidFill>
                <a:srgbClr val="cc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af_logo"/>
          <p:cNvPicPr/>
          <p:nvPr/>
        </p:nvPicPr>
        <p:blipFill>
          <a:blip r:embed="rId1"/>
          <a:stretch/>
        </p:blipFill>
        <p:spPr>
          <a:xfrm>
            <a:off x="685800" y="228600"/>
            <a:ext cx="2286000" cy="573120"/>
          </a:xfrm>
          <a:prstGeom prst="rect">
            <a:avLst/>
          </a:prstGeom>
          <a:ln w="0">
            <a:noFill/>
          </a:ln>
        </p:spPr>
      </p:pic>
      <p:sp>
        <p:nvSpPr>
          <p:cNvPr id="84" name="Line 5"/>
          <p:cNvSpPr/>
          <p:nvPr/>
        </p:nvSpPr>
        <p:spPr>
          <a:xfrm>
            <a:off x="457200" y="6477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457200" y="1600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038480" y="22860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>
            <a:hlinkClick r:id="rId2"/>
          </p:cNvPr>
          <p:cNvSpPr/>
          <p:nvPr/>
        </p:nvSpPr>
        <p:spPr>
          <a:xfrm>
            <a:off x="1448640" y="76212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>
            <a:off x="457200" y="40384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8" descr="pure_power_trs"/>
          <p:cNvPicPr/>
          <p:nvPr/>
        </p:nvPicPr>
        <p:blipFill>
          <a:blip r:embed="rId3"/>
          <a:stretch/>
        </p:blipFill>
        <p:spPr>
          <a:xfrm>
            <a:off x="4419720" y="16765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pure_power_sld"/>
          <p:cNvPicPr/>
          <p:nvPr/>
        </p:nvPicPr>
        <p:blipFill>
          <a:blip r:embed="rId4"/>
          <a:stretch/>
        </p:blipFill>
        <p:spPr>
          <a:xfrm>
            <a:off x="457200" y="41148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pure_power_qx"/>
          <p:cNvPicPr/>
          <p:nvPr/>
        </p:nvPicPr>
        <p:blipFill>
          <a:blip r:embed="rId5"/>
          <a:stretch/>
        </p:blipFill>
        <p:spPr>
          <a:xfrm>
            <a:off x="457200" y="16765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1" descr="pure_power_prt"/>
          <p:cNvPicPr/>
          <p:nvPr/>
        </p:nvPicPr>
        <p:blipFill>
          <a:blip r:embed="rId6"/>
          <a:stretch/>
        </p:blipFill>
        <p:spPr>
          <a:xfrm>
            <a:off x="4419720" y="41148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15:54:31Z</dcterms:created>
  <dc:creator>jzeinert</dc:creator>
  <dc:description/>
  <dc:language>en-US</dc:language>
  <cp:lastModifiedBy>Siolka Marcy</cp:lastModifiedBy>
  <dcterms:modified xsi:type="dcterms:W3CDTF">2011-06-23T14:06:29Z</dcterms:modified>
  <cp:revision>3</cp:revision>
  <dc:subject/>
  <dc:title>Food</dc:title>
</cp:coreProperties>
</file>